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C3B5-CD08-4CA2-8BE2-0C9E815C4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8878-8322-4077-9DAC-147F3BE7E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A0EB6F-BF0C-49C5-8F60-F3924DC3E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1685D9-70F2-486F-85BD-600030FD1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F4B859-2BBB-44C8-82A1-CAAC0D332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4A5BBC-1B70-498F-A39A-DFE4BB636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BFCC2D-DECA-4CB6-8957-738FF7885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CFCBA5-7BD3-49FF-9F8E-9F1C7734D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4F0507-F992-4D10-9D69-82EBC43C1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A9B811-3A8A-44E5-9464-E4E355496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CA8BA2-5329-469D-B30A-6530E54F3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AB77A2-E603-41FC-8F9F-5B4EFF5A8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D829-1F5C-4668-96E6-B5290A6BB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49ACF9-5083-4AD5-90BE-EF72CAF2D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2DEBDA-79D4-4CE4-9318-B2F145225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44ACCA-8F82-49DB-9317-508097F6E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0850CA-2929-495A-B1D2-21C25ECB5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5CA0DC-163C-43E1-B35D-DD5EB6B9B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A18A58-412D-46B5-9F0A-37FA485A7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F03CD8-11EE-4BC0-96A8-F5BD7FFD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DBA600-AF58-45E0-970A-024923471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37937E-7079-4F4F-8461-6B6499840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2BEC44-C5A4-4575-A999-9D0E14F6D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77E9-7A09-4BE4-A7C5-7C17847E5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3389E0-B03B-45E4-A7E1-112CE9058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A26ACF-4551-4544-BF7A-D774CB25E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17EA5A-086C-43B9-A10D-36C017A61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2DA392-21AF-4E36-9739-4BF74C9D8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C351C2-B886-4280-8FC0-898CE4DE9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B99366-0D48-4AC4-9168-592048510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46480F-46EA-404B-B71B-A74314BDD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E362D4-66A2-4DB7-A0A7-A129073FF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39593F-D12C-4927-BA34-E947E59A8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C583FB-C77A-46CD-BAF3-AA6A6CE1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4E416-05B1-4973-B655-5A8A8786B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3C015F-855F-4320-805D-93EBB8689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EFC6B3-D0ED-4122-8A90-BC50186DA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70D1EC-39DB-4C48-BB22-ACFD2D2D3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B9C0AC-B1CB-43E4-BAE6-3AB1ED11D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C7EBF1-0D53-46AE-8A3B-6FA8B8787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71D1B4-8420-42D4-B312-4F0945434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514033-4380-43EF-86D8-4B9B94513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52D1B4-F0CE-4994-A23B-6560AEB28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6A8020-E4D4-4E65-AF8B-8C31EE500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EFA102-A2C3-43A0-9A7A-33451E551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DD0A1-0CB0-4E3D-A264-076912765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BC9699-8187-4F12-9579-F7B72E806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BE2E89-D052-4AF1-B3B3-B2604E6BC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D63A69-98D6-43AA-AEA5-3A61C3297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3822F6-55AD-452D-A3A3-839052A3F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834D13-5F5A-47D8-A363-AD486693B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14A2D-6093-45EA-93AC-B30BA59C2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BB488-12AD-4BDF-A57C-159E4382D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0A79E-F52B-4EFA-9A84-F2FC46FE7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30469-4192-4F74-AC65-0CF851CDB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1A459-87BC-48EC-829E-13A85CA0C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E21E-D7C5-4434-A106-CC6D9C95F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1554A-2721-4AF3-A277-D7AF87B4F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1EDDE-A735-45D9-954F-8A66EE5D1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F984F-302B-407D-B83A-A9D79660D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01801-2B32-4276-889F-3A6E36C9F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E2C42-8C1B-42A7-9BE4-60F03BA39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7F871-372C-4715-A1AA-B3612444C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36B11-038A-46C7-8BFD-B255E5E62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DE8B3-B642-417D-8E27-32DEBA2B7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7F07A-C0CF-4990-ACFA-3DA40D5EB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6136C-2CBE-460D-876F-DFAC5F2F1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7154-6062-4C69-82BF-94D1C1198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7A6CA-1FE4-4866-AF35-7F68B1F0A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4BDFE-D8A9-4FB4-BF1B-93B339A4F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C535C-68BD-4E88-A27B-DDED2EEB1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2364B-9D2C-438E-A0D9-4984FD1EF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2FC34-D094-4B1E-AA35-F2715E35E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1E1F1-B066-411F-9009-6F9BE3333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97134-51D1-4A1D-9A2B-2C22163B5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D0787-89FC-4200-815E-B34BAF7BD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A77D6-92FC-4489-B680-FF5EB4C1D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92582-C265-40D4-B3D6-E38539E86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8B88-8F59-422D-BB7D-C640E60F3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03A4D5-3BE3-40D9-870E-DF4BA2819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BB14E-CEA8-4BCC-83E8-7AE160A3E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C56CD-9DBB-49FE-BE4C-48843A211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FEBA1-C529-498B-8597-79F8E0F20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24F4A-0CA4-417D-8DC8-35767F4B2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CCA62-4459-4C27-BB9B-A6087DEC6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7EFF0-0EE2-4A43-B319-F01D8E503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3D32B5-C3C5-4171-9C27-187FBBCCE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E001F-696A-43AB-B13D-AD17E10BF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EDB24-6246-4A75-8A0E-46BD7EE91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BC59-DEB0-471F-808D-EFE4028AD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586EF-DD79-44CB-B819-A30E33E82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44EFE-B867-46E5-B984-EE3AB3147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E9AF8F-EDDD-4FB8-A7E6-83972E2BE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55EDB-6F62-4F20-B875-E59D6210C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98267-A7FE-492C-AD98-2B66DE04B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E24D07-664F-432E-9B54-D974CD884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44AD05-1710-40E4-A39E-17D36768A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ED6B54-EA47-4475-AD93-FDE21A359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B34BB-61EB-40F3-8664-BB337FFF2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1399DA-693A-4C4F-884E-BE7A7BDEC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F033-3E67-4ED4-A0BE-98B1E9B69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B5988B-DFCA-4C7A-A927-94B7F0ECE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96781A-0D81-40D7-A570-E861221A0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4805E0-53F2-4417-A745-C74AA16DF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E62020-45E5-46DF-ACAB-C8DC30AE1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D079AE-7331-4631-BAC0-BDA145E06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D269EC-5085-4F1E-BAAF-91F16C626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4FEC3C-1BAE-4A1E-9004-CE3618001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1F4C38-ED93-49EC-95C6-3605D758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0867AB-7FC8-47B0-8792-BC07ABEC1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F51CFD-EF92-4789-A5FA-0934A17B3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5813-7665-4C98-BF45-714F7C706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56F4EE-AF8C-4386-A5C9-210A6FF87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D55B1D-1D5F-466C-9E7E-038A933A5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7C5609-C26D-4BBA-BED1-1E0C35206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669E01-DB7D-4298-9506-70598FBC5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15D700-48C0-4DD8-8964-71D894C56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3B67E8-853D-4132-BD45-BE7C7D3E4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14DF5C-5D75-4B7E-850E-950A669F8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D9342C-F903-460E-A75C-E5A6A985A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068AEB-3DBE-47BC-AF20-36E4254C1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A12629-F81B-4F37-9E80-98BE15EDF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D24A-4552-4497-AFFC-0800202C9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7C9CB7-EC79-4677-99EE-2B29B3E1D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7E7E90-8269-48FA-B163-6CDB35A74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F96EE0-7AB8-4B92-A412-9BE562F0A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229B7D-AFAE-4E15-B127-DA95AEAFB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DB9473-F77E-4893-B323-956D5E288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D6F4B2-3B0E-48AD-9D92-FB3216A8E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4EC688-D833-483C-A890-BBE0C2CA0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4AFED5-5C02-4546-9654-2564CC125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3D6E2E-C0F8-403F-B064-DBF1E8DF6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2C2EBB-27E3-491E-A0AC-0E01F42D2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C964-0671-4F41-B327-1F67AE4BD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D1E8BD-272F-4016-937D-E76FAF88E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498388-C9F1-4DC6-BC71-7F2427A5F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3625F8-CCF9-4A1F-8F2D-F04F9917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078E6C-3C45-4C0B-9742-BA1F2912F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453A2F-3B09-4C1A-9636-159A989CB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C17924-E5F2-41CB-B463-E932890F0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53AF37-FDFD-4462-BE94-34F47EF17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07E0B8-704F-4E7F-B142-70E464A97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744BA3-83CF-4389-9B93-C62FB6B97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09725B-E281-4EDC-AB2C-E9CC838CF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2C4E9-449F-48A4-9C1B-55CC827BC7E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A099E-F606-42B7-BE0C-5C769BC412A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6C76C-2F7D-44A5-9716-1F416E80858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749ED-962F-4CB9-8633-9068CD99822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9E7CD-4677-4FF1-B78F-69B5FF70CDB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4A3E6-70BA-4460-96D9-226BAC8D0FF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35E24-4148-4B0F-A094-375AB7D6E2A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03098-A4BE-4310-8E7A-2B21C78613B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B2B2D-99A3-42C5-87E3-38015EBE81E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5F962-06AF-4D82-BA9A-A6293AF16C2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6973D-9C03-4C0B-9B9A-41B70D8783F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7C6F7-3749-47F3-A3D1-94A73B5E1FF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3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76 Úsvit sa blíž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, vznešený Kráľ slávy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o na seba hriech náš vza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už príde, aby nový raj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ám daroval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Úsvit sa blíž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oc zla sa krát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oniec bude tmám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v sláve Otc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 neba sa vrát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 nám na zem drahý P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, vznešený Kráľ slávy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o na seba hriech náš vza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už príde, aby nový raj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ám darov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nes môže každý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ozpoznať mnohé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ožie znamenia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e v krátkom čas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pasiteľov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ľuby sa naplni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, vznešený Kráľ slávy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o na seba hriech náš vza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už príde, aby nový raj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ám darov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dvihnite hlavy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nám tak radí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tešuje ná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o preň kto stratí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vynahradí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naplní sa č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2T16:39:31Z</dcterms:created>
  <dc:creator>MD</dc:creator>
  <dc:description/>
  <dc:language>en-US</dc:language>
  <cp:lastModifiedBy>DUMAS Ing. Dušan Bielik</cp:lastModifiedBy>
  <dcterms:modified xsi:type="dcterms:W3CDTF">2025-01-06T18:41:03Z</dcterms:modified>
  <cp:revision>8</cp:revision>
  <dc:subject/>
  <dc:title>Bez nadpisu</dc:title>
</cp:coreProperties>
</file>